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568B5-A728-4E01-8328-F267E55EC091}" type="slidenum">
              <a:rPr b="1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hanged the background to a soft gray to see if you like it. It is easier on the ey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48496-BE5F-497D-A442-9D717388DC2E}" type="slidenum">
              <a:rPr b="1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1E57F-0EAC-43DA-96CD-4251B1E35978}" type="slidenum">
              <a:rPr b="1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AE496-2B6E-4F4D-BA17-3B8337A2FF22}" type="slidenum">
              <a:rPr b="1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24FB-8FB8-4B22-BF6D-70D91E42F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9D6F-3D35-48DA-A1D1-8FC656009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74CDCB-5664-4949-A6B8-C65F0B2E2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585AB4-8513-4551-90D4-6D2B2CB19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AED518-0B86-443F-8CBA-46FFBF020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FBD377-1E56-4D67-8F1D-7C4F8E8A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5AAE9F-068B-41EA-AA3D-67B0CDC4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A1DFF7-A705-47F4-B5D5-4F162847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C9726E-D4D6-4D61-9F6C-9FC13FCC2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FADE58-0326-4606-AEC9-31573805F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D27312-8C6F-4C7B-BAAF-3C2749D2A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79727D-67D2-4A5D-8824-31C3E1B51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26EC-7C96-4913-92CC-5B77AF453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555601-D3EB-4025-9080-5DED05608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E38FD3-B356-4EB3-8C76-5F66DB658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0A4468-817F-4FAA-94C5-C7A343540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18EC24-A301-465C-9CCD-D6402E1BF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822CA5-042C-45A5-8DA1-ED69374CA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DCC637-63F0-44DA-A22F-B917B6BF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333E02-4A0C-4A12-B54A-25EAF4B8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A62024-2018-43AB-AFFB-369F4092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EE04D0-A32B-4ABF-8A9E-85B2A09D5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B83A92-AD34-4519-80B6-01285CEF7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6B51-3EB1-4654-8208-C381CBF38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8E89E8-9E77-4262-A84C-EF1827946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983292-E8D6-4107-B1B4-4B8F8AB26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DA7F36-147C-4EAE-8920-50D0FB7D0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B821CB-3E33-478B-834E-74DF3A88E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E2EE41-4E14-4190-9CAC-38B944D1E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3CEE35-C361-4B28-B69C-4F2CDCBD4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F1A83A-A13B-446C-A0ED-A80F16E32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A844D1-74BA-4AC6-9FBB-10913A63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FA6447-D383-4AF3-8E6E-5FBA2B29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0D41DA-6889-41CB-AB12-754C6B59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968A7D-9565-417F-8807-E26C3C826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E7203C-8770-49F5-838E-EF15ABCF8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2FD4BB-5740-4DA8-94E8-CEC70D0F7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54FFAC-2EEE-4D25-A64F-E925F7517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90DF42-0317-41B7-B8BA-1C64BC9DD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C84628-79EB-4E2F-8ECE-C9C5BAA4E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F8E995-FE43-48D2-A409-AFC647B10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50E498-3E87-4F40-A19E-119AF6CE6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295B7B-E6E2-4326-B1E7-652272377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BF0EA8-19CE-4EE8-948A-ACB18D1CD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B1C162-C56D-404C-9473-05911AE6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CDAF78-8D21-4786-95E0-A86C09BCA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3233F6-13C6-488C-9AFE-ECA12762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71765C-423C-47D9-943F-807A6B86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501FEC-C2A5-4C8D-9564-851BF3262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18F8EB-588F-4C82-88FF-9CF4C942C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581AA1-D60A-404C-87BA-E7306A5CE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5F2E9E-F32C-4641-A1C7-D2511FF2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84E9D4-0CDC-44A2-A4D0-267A1A120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C0B6C0-8A4C-4146-ADD5-88F75120F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969911-23CE-42D7-8EBF-0AFFC8B37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48642A-6E21-4B27-A7F9-EA2D9B8D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8509-3737-43A4-8A8C-E1621B05D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C33239-EA6B-4B36-AC31-5D69A930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0DFC19-1EAE-425C-96AF-5359CF2E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10B424-8185-4663-ACBC-4334C6628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1B540A-3813-40EA-B2BC-5A6915BFB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B842F1-EB53-4E1E-9417-8D2AD2630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03CCB-F534-4C1E-9B2A-4A3BD3EDA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EEE99-217A-4958-B94D-067A59F75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77E12-5AE5-479A-954B-50270674E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FD621-10BA-460B-987D-BBE5F8D9D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6E239-E33C-4BE2-9487-E71E0F57A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846D-94C4-4C6F-87A7-13E876A79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AA406-2B35-4886-88BA-C7C41E3E0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5C2A1-6E1C-4692-BF8F-7F4DF0C5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82CBA-7725-498E-A83E-5BF08806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657BA-47B8-43F0-8D53-7DB883C6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07004-E3C4-4A58-9033-DF6BC62D1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1E64D-E2D0-44D1-837E-ABDE68574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9540F-B419-4318-8D41-248B58AA5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A9847-C86A-4AF3-BA9E-DAC3C6D83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C697E-2A26-4B3B-BA31-24FA895ED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B7480-05A5-4191-A2B3-7604A808A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952A-CD31-4804-A2B6-6D06ED6B1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6ACB0-7721-4D5E-868B-C25ACECBB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26DC4-64AD-4D0D-8D62-E1BB0E552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6A5A2-A5D7-4A92-8BF1-DE08F34DE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B5256-6367-4E16-8E82-8BA81952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AA332-8F6E-4CE6-948E-8FCDD5CD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73DE7-07A7-4070-BFAA-6B9DA7A7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13080-39D8-4078-AA72-FDAA4037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74306-ECAD-444E-84C8-E754E92F2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F445B-849E-494E-B05C-09658CA81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B6CB6-3E39-49AB-98B2-8D1CAD389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E91A-4A19-4D81-A9DD-DCAB104AB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D396B-0A8F-4BCE-B28E-7AAECEBEA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F1785-64A4-46DE-9A88-86B1A2444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7F978-144D-4A45-802D-13EF8AC6A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3373E-9147-4D55-A359-E2A514884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35312-BB54-44BD-9929-F8B0FE9A7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8921E-7FD0-4737-AED0-33846960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00C5D-43B3-4542-994E-165CBBF3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403D1-2A68-4D50-91B0-F4626149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501FC-D60A-4E95-A5FC-971862764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801A8-F839-4930-BCAE-846638C7B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043B-B17A-46F0-AA7C-FA6C17BEA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17A74-D612-49F2-A12F-F3EBCAEF5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68D6D-2DA0-4757-9E93-A3180149F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B7FA8-5F5C-4BF8-B78D-295EA966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0D697-AA1D-4BA1-8588-C4CACA1A8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50783-FF09-4C2E-A8CF-715E6D84E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A2300-5CFA-4965-8C91-FF05E41A8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66217-3078-4232-824B-2130D4E9D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4F885-1017-4E9F-81FC-4CE1D927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96376-A35F-4D57-860D-8C91E0DA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24D13-1D54-4A3A-AB97-19463258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01FE-76FE-4175-836C-56F33820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420E86-7E2F-48DA-943B-4A5049D5D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F1CBA1-040E-4120-AE05-17620DC7E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A0216-5BA4-48AA-BD93-4A3ABE571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084A5-92C8-42B4-8676-CF27D4625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9AD946-3F1C-46E5-B148-7CBB0B1FC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07C791-5128-4547-A749-4AF203ED8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BDAA20-D9DB-4CF6-8FA6-E71399A9E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4FD1D-96B0-45A9-B4F5-AB341C3C0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9D332-D325-4F8C-90BF-65BD10611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1527BF-92CF-4B76-B207-5FDE06E7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6870-FD46-4CBC-9366-1D094CFB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E936F-C6E1-4DD6-AB8F-506583E7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616FEC-C6E8-4915-9BD1-97461F29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6D45B9-D8FB-46E2-8672-A9F5FEF88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FDC70-2A42-4A46-B5DC-9EA7DB78C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59EE99-3D00-4E0E-BD97-A0E78480D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A5DDB1-4C84-4213-BD36-EF99E2E16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B84B7-7593-43B4-BA2B-23A3EA433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02E7C5-59B0-4742-ABC4-5B259E76A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675C81-DD75-4FC3-9AA7-C5FF92678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AC87F-93E1-4630-95BD-4ADA43CA8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E403-918E-4F38-B786-1C1AFB9D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BFAF81-958D-460F-8168-E821FFE37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1DC862-EAAD-464A-8D4C-24CC0F5C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730DA8-7F06-4C88-B648-380A85BE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177575-58F0-4F38-9D8F-FD7F2565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7570FA-956F-4508-816D-BABB41E4C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2AA0B0-589A-4052-BA38-FAFEE962E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2DC34A-B086-493A-A89A-B4540CBF2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9111FB-814A-44DB-B823-72EE4F646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537AB4-F7E7-456D-BEBA-00D800C9C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491E91-6E51-4699-8059-CE572DF68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1920" y="6324480"/>
            <a:ext cx="5410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6019560" y="632448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57840" y="632448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28"/>
          </p:nvPr>
        </p:nvSpPr>
        <p:spPr>
          <a:xfrm>
            <a:off x="151920" y="6324480"/>
            <a:ext cx="5410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ftr" idx="29"/>
          </p:nvPr>
        </p:nvSpPr>
        <p:spPr>
          <a:xfrm>
            <a:off x="6019560" y="632448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sldNum" idx="30"/>
          </p:nvPr>
        </p:nvSpPr>
        <p:spPr>
          <a:xfrm>
            <a:off x="8457840" y="632448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00C7F-3E7E-4907-AB54-F3C40734CF4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1"/>
          </p:nvPr>
        </p:nvSpPr>
        <p:spPr>
          <a:xfrm>
            <a:off x="151920" y="6324480"/>
            <a:ext cx="5410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2"/>
          </p:nvPr>
        </p:nvSpPr>
        <p:spPr>
          <a:xfrm>
            <a:off x="6019560" y="632448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3"/>
          </p:nvPr>
        </p:nvSpPr>
        <p:spPr>
          <a:xfrm>
            <a:off x="8457840" y="632448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3C16C-0C65-4238-B9D9-AA7B0340D9D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34"/>
          </p:nvPr>
        </p:nvSpPr>
        <p:spPr>
          <a:xfrm>
            <a:off x="151920" y="6324480"/>
            <a:ext cx="5410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35"/>
          </p:nvPr>
        </p:nvSpPr>
        <p:spPr>
          <a:xfrm>
            <a:off x="6019560" y="632448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36"/>
          </p:nvPr>
        </p:nvSpPr>
        <p:spPr>
          <a:xfrm>
            <a:off x="8457840" y="632448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937C0-C149-44FE-826B-0B88ABBA68C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4"/>
          </p:nvPr>
        </p:nvSpPr>
        <p:spPr>
          <a:xfrm>
            <a:off x="6248160" y="6324120"/>
            <a:ext cx="15238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5"/>
          </p:nvPr>
        </p:nvSpPr>
        <p:spPr>
          <a:xfrm>
            <a:off x="8152920" y="6324120"/>
            <a:ext cx="8384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1.2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dt" idx="6"/>
          </p:nvPr>
        </p:nvSpPr>
        <p:spPr>
          <a:xfrm>
            <a:off x="151920" y="6324120"/>
            <a:ext cx="57913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-360" y="632448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6019560" y="632448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457840" y="632448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151920" y="6324480"/>
            <a:ext cx="5410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6019560" y="632448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457840" y="632448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13F61-CD0C-4E5B-AA45-85EBF2D759D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151920" y="6324480"/>
            <a:ext cx="5410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6019560" y="632448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8457840" y="632448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55108-C4D3-4F5B-9E68-4117E7DB8CF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6"/>
          </p:nvPr>
        </p:nvSpPr>
        <p:spPr>
          <a:xfrm>
            <a:off x="151920" y="6324480"/>
            <a:ext cx="5410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7"/>
          </p:nvPr>
        </p:nvSpPr>
        <p:spPr>
          <a:xfrm>
            <a:off x="6019560" y="632448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8"/>
          </p:nvPr>
        </p:nvSpPr>
        <p:spPr>
          <a:xfrm>
            <a:off x="8457840" y="632448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8A793-DF27-4E7C-8CE7-770D51009C9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151920" y="6324480"/>
            <a:ext cx="5410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6019560" y="632448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8457840" y="632448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C04CB-6E44-4FE6-BC28-F5216F61AEB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2"/>
          </p:nvPr>
        </p:nvSpPr>
        <p:spPr>
          <a:xfrm>
            <a:off x="151920" y="6324480"/>
            <a:ext cx="5410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3"/>
          </p:nvPr>
        </p:nvSpPr>
        <p:spPr>
          <a:xfrm>
            <a:off x="6019560" y="632448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4"/>
          </p:nvPr>
        </p:nvSpPr>
        <p:spPr>
          <a:xfrm>
            <a:off x="8457840" y="632448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939ED-1BE1-4379-9C9D-2C4CB3EBADD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25"/>
          </p:nvPr>
        </p:nvSpPr>
        <p:spPr>
          <a:xfrm>
            <a:off x="151920" y="6324480"/>
            <a:ext cx="5410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26"/>
          </p:nvPr>
        </p:nvSpPr>
        <p:spPr>
          <a:xfrm>
            <a:off x="6019560" y="632448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27"/>
          </p:nvPr>
        </p:nvSpPr>
        <p:spPr>
          <a:xfrm>
            <a:off x="8457840" y="632448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7D13D-A2F7-4887-945D-AA174A8B2EC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040" y="144756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ffective Training: Systems, Strategies and Practices,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4</a:t>
            </a:r>
            <a:r>
              <a:rPr b="0" lang="en-US" sz="3600" spc="-1" strike="noStrike" baseline="30000">
                <a:solidFill>
                  <a:srgbClr val="333399"/>
                </a:solidFill>
                <a:latin typeface="Tahoma"/>
              </a:rPr>
              <a:t>th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 Edi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pter O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. Nick Blanchard and  James W. Thack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Footer Placeholder 3"/>
          <p:cNvSpPr/>
          <p:nvPr/>
        </p:nvSpPr>
        <p:spPr>
          <a:xfrm>
            <a:off x="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Slide Number Placeholder 5"/>
          <p:cNvSpPr/>
          <p:nvPr/>
        </p:nvSpPr>
        <p:spPr>
          <a:xfrm>
            <a:off x="8305920" y="6324480"/>
            <a:ext cx="838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1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General Open Systems Mod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1" name="Footer Placeholder 3"/>
          <p:cNvSpPr/>
          <p:nvPr/>
        </p:nvSpPr>
        <p:spPr>
          <a:xfrm>
            <a:off x="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Group 16"/>
          <p:cNvGrpSpPr/>
          <p:nvPr/>
        </p:nvGrpSpPr>
        <p:grpSpPr>
          <a:xfrm>
            <a:off x="838080" y="2928960"/>
            <a:ext cx="7386840" cy="2500200"/>
            <a:chOff x="838080" y="2928960"/>
            <a:chExt cx="7386840" cy="2500200"/>
          </a:xfrm>
        </p:grpSpPr>
        <p:grpSp>
          <p:nvGrpSpPr>
            <p:cNvPr id="593" name="Group 15"/>
            <p:cNvGrpSpPr/>
            <p:nvPr/>
          </p:nvGrpSpPr>
          <p:grpSpPr>
            <a:xfrm>
              <a:off x="838080" y="2928960"/>
              <a:ext cx="7386840" cy="2500200"/>
              <a:chOff x="838080" y="2928960"/>
              <a:chExt cx="7386840" cy="2500200"/>
            </a:xfrm>
          </p:grpSpPr>
          <p:sp>
            <p:nvSpPr>
              <p:cNvPr id="594" name="Text Box 4"/>
              <p:cNvSpPr/>
              <p:nvPr/>
            </p:nvSpPr>
            <p:spPr>
              <a:xfrm>
                <a:off x="838080" y="2928960"/>
                <a:ext cx="7386840" cy="174924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OPEN  SYSTEM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INPUT                        PROCESS                      OUTPU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Line 5"/>
              <p:cNvSpPr/>
              <p:nvPr/>
            </p:nvSpPr>
            <p:spPr>
              <a:xfrm>
                <a:off x="2286000" y="3746520"/>
                <a:ext cx="1359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Line 6"/>
              <p:cNvSpPr/>
              <p:nvPr/>
            </p:nvSpPr>
            <p:spPr>
              <a:xfrm>
                <a:off x="5181480" y="3746520"/>
                <a:ext cx="1295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Line 7"/>
              <p:cNvSpPr/>
              <p:nvPr/>
            </p:nvSpPr>
            <p:spPr>
              <a:xfrm flipH="1">
                <a:off x="6629040" y="5060880"/>
                <a:ext cx="120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Text Box 8"/>
              <p:cNvSpPr/>
              <p:nvPr/>
            </p:nvSpPr>
            <p:spPr>
              <a:xfrm>
                <a:off x="3048120" y="4846680"/>
                <a:ext cx="3619440" cy="58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Systems External Environmen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Line 9"/>
              <p:cNvSpPr/>
              <p:nvPr/>
            </p:nvSpPr>
            <p:spPr>
              <a:xfrm>
                <a:off x="7835760" y="3733920"/>
                <a:ext cx="0" cy="134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Line 10"/>
              <p:cNvSpPr/>
              <p:nvPr/>
            </p:nvSpPr>
            <p:spPr>
              <a:xfrm>
                <a:off x="1809720" y="3886200"/>
                <a:ext cx="0" cy="116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Line 11"/>
              <p:cNvSpPr/>
              <p:nvPr/>
            </p:nvSpPr>
            <p:spPr>
              <a:xfrm flipH="1">
                <a:off x="1809720" y="5041800"/>
                <a:ext cx="116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2" name="Line 12"/>
            <p:cNvSpPr/>
            <p:nvPr/>
          </p:nvSpPr>
          <p:spPr>
            <a:xfrm flipH="1">
              <a:off x="7696080" y="3743280"/>
              <a:ext cx="152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3" name="Slide Number Placeholder 17"/>
          <p:cNvSpPr/>
          <p:nvPr/>
        </p:nvSpPr>
        <p:spPr>
          <a:xfrm>
            <a:off x="8458200" y="632448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Training as a Subsystem within the Organizational System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5" name="Footer Placeholder 3"/>
          <p:cNvSpPr/>
          <p:nvPr/>
        </p:nvSpPr>
        <p:spPr>
          <a:xfrm>
            <a:off x="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" name="Group 119"/>
          <p:cNvGrpSpPr/>
          <p:nvPr/>
        </p:nvGrpSpPr>
        <p:grpSpPr>
          <a:xfrm>
            <a:off x="1447920" y="2057400"/>
            <a:ext cx="6172200" cy="4343400"/>
            <a:chOff x="1447920" y="2057400"/>
            <a:chExt cx="6172200" cy="4343400"/>
          </a:xfrm>
        </p:grpSpPr>
        <p:sp>
          <p:nvSpPr>
            <p:cNvPr id="607" name="Rectangle 70"/>
            <p:cNvSpPr/>
            <p:nvPr/>
          </p:nvSpPr>
          <p:spPr>
            <a:xfrm>
              <a:off x="2057400" y="3124800"/>
              <a:ext cx="63360" cy="63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71"/>
            <p:cNvSpPr/>
            <p:nvPr/>
          </p:nvSpPr>
          <p:spPr>
            <a:xfrm>
              <a:off x="1981080" y="3733200"/>
              <a:ext cx="231840" cy="24732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46" h="166">
                  <a:moveTo>
                    <a:pt x="73" y="166"/>
                  </a:moveTo>
                  <a:lnTo>
                    <a:pt x="0" y="0"/>
                  </a:lnTo>
                  <a:lnTo>
                    <a:pt x="73" y="40"/>
                  </a:lnTo>
                  <a:lnTo>
                    <a:pt x="146" y="0"/>
                  </a:lnTo>
                  <a:lnTo>
                    <a:pt x="73" y="1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73"/>
            <p:cNvSpPr/>
            <p:nvPr/>
          </p:nvSpPr>
          <p:spPr>
            <a:xfrm>
              <a:off x="2514600" y="3733200"/>
              <a:ext cx="231840" cy="24732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46" h="166">
                  <a:moveTo>
                    <a:pt x="73" y="166"/>
                  </a:moveTo>
                  <a:lnTo>
                    <a:pt x="0" y="0"/>
                  </a:lnTo>
                  <a:lnTo>
                    <a:pt x="73" y="39"/>
                  </a:lnTo>
                  <a:lnTo>
                    <a:pt x="146" y="0"/>
                  </a:lnTo>
                  <a:lnTo>
                    <a:pt x="73" y="1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75"/>
            <p:cNvSpPr/>
            <p:nvPr/>
          </p:nvSpPr>
          <p:spPr>
            <a:xfrm>
              <a:off x="6934320" y="3047400"/>
              <a:ext cx="231480" cy="24732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46" h="166">
                  <a:moveTo>
                    <a:pt x="73" y="0"/>
                  </a:moveTo>
                  <a:lnTo>
                    <a:pt x="146" y="166"/>
                  </a:lnTo>
                  <a:lnTo>
                    <a:pt x="73" y="126"/>
                  </a:lnTo>
                  <a:lnTo>
                    <a:pt x="0" y="166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78"/>
            <p:cNvSpPr/>
            <p:nvPr/>
          </p:nvSpPr>
          <p:spPr>
            <a:xfrm>
              <a:off x="1806480" y="4343040"/>
              <a:ext cx="1181160" cy="381600"/>
            </a:xfrm>
            <a:custGeom>
              <a:avLst/>
              <a:gdLst>
                <a:gd name="textAreaLeft" fmla="*/ 0 w 1181160"/>
                <a:gd name="textAreaRight" fmla="*/ 1181520 w 1181160"/>
                <a:gd name="textAreaTop" fmla="*/ 0 h 381600"/>
                <a:gd name="textAreaBottom" fmla="*/ 381960 h 381600"/>
              </a:gdLst>
              <a:ahLst/>
              <a:rect l="textAreaLeft" t="textAreaTop" r="textAreaRight" b="textAreaBottom"/>
              <a:pathLst>
                <a:path w="744" h="212">
                  <a:moveTo>
                    <a:pt x="13" y="192"/>
                  </a:moveTo>
                  <a:lnTo>
                    <a:pt x="724" y="192"/>
                  </a:lnTo>
                  <a:lnTo>
                    <a:pt x="724" y="19"/>
                  </a:lnTo>
                  <a:lnTo>
                    <a:pt x="13" y="19"/>
                  </a:lnTo>
                  <a:lnTo>
                    <a:pt x="13" y="0"/>
                  </a:lnTo>
                  <a:lnTo>
                    <a:pt x="744" y="0"/>
                  </a:lnTo>
                  <a:lnTo>
                    <a:pt x="744" y="212"/>
                  </a:lnTo>
                  <a:lnTo>
                    <a:pt x="0" y="212"/>
                  </a:lnTo>
                  <a:lnTo>
                    <a:pt x="0" y="199"/>
                  </a:lnTo>
                  <a:lnTo>
                    <a:pt x="13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79"/>
            <p:cNvSpPr/>
            <p:nvPr/>
          </p:nvSpPr>
          <p:spPr>
            <a:xfrm>
              <a:off x="1792440" y="4343040"/>
              <a:ext cx="45720" cy="3816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381600"/>
                <a:gd name="textAreaBottom" fmla="*/ 381960 h 381600"/>
              </a:gdLst>
              <a:ahLst/>
              <a:rect l="textAreaLeft" t="textAreaTop" r="textAreaRight" b="textAreaBottom"/>
              <a:pathLst>
                <a:path w="20" h="199">
                  <a:moveTo>
                    <a:pt x="20" y="13"/>
                  </a:moveTo>
                  <a:lnTo>
                    <a:pt x="20" y="199"/>
                  </a:lnTo>
                  <a:lnTo>
                    <a:pt x="0" y="199"/>
                  </a:lnTo>
                  <a:lnTo>
                    <a:pt x="0" y="0"/>
                  </a:lnTo>
                  <a:lnTo>
                    <a:pt x="13" y="0"/>
                  </a:lnTo>
                  <a:lnTo>
                    <a:pt x="2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80"/>
            <p:cNvSpPr/>
            <p:nvPr/>
          </p:nvSpPr>
          <p:spPr>
            <a:xfrm>
              <a:off x="3537000" y="4343040"/>
              <a:ext cx="1751040" cy="381600"/>
            </a:xfrm>
            <a:custGeom>
              <a:avLst/>
              <a:gdLst>
                <a:gd name="textAreaLeft" fmla="*/ 0 w 1751040"/>
                <a:gd name="textAreaRight" fmla="*/ 1751400 w 1751040"/>
                <a:gd name="textAreaTop" fmla="*/ 0 h 381600"/>
                <a:gd name="textAreaBottom" fmla="*/ 381960 h 381600"/>
              </a:gdLst>
              <a:ahLst/>
              <a:rect l="textAreaLeft" t="textAreaTop" r="textAreaRight" b="textAreaBottom"/>
              <a:pathLst>
                <a:path w="1103" h="219">
                  <a:moveTo>
                    <a:pt x="13" y="199"/>
                  </a:moveTo>
                  <a:lnTo>
                    <a:pt x="1083" y="199"/>
                  </a:lnTo>
                  <a:lnTo>
                    <a:pt x="1083" y="20"/>
                  </a:lnTo>
                  <a:lnTo>
                    <a:pt x="13" y="20"/>
                  </a:lnTo>
                  <a:lnTo>
                    <a:pt x="13" y="0"/>
                  </a:lnTo>
                  <a:lnTo>
                    <a:pt x="1103" y="0"/>
                  </a:lnTo>
                  <a:lnTo>
                    <a:pt x="1103" y="219"/>
                  </a:lnTo>
                  <a:lnTo>
                    <a:pt x="0" y="219"/>
                  </a:lnTo>
                  <a:lnTo>
                    <a:pt x="0" y="206"/>
                  </a:lnTo>
                  <a:lnTo>
                    <a:pt x="13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81"/>
            <p:cNvSpPr/>
            <p:nvPr/>
          </p:nvSpPr>
          <p:spPr>
            <a:xfrm flipH="1">
              <a:off x="3581280" y="4343040"/>
              <a:ext cx="46080" cy="381600"/>
            </a:xfrm>
            <a:custGeom>
              <a:avLst/>
              <a:gdLst>
                <a:gd name="textAreaLeft" fmla="*/ 360 w 46080"/>
                <a:gd name="textAreaRight" fmla="*/ 46800 w 46080"/>
                <a:gd name="textAreaTop" fmla="*/ 0 h 381600"/>
                <a:gd name="textAreaBottom" fmla="*/ 381960 h 381600"/>
              </a:gdLst>
              <a:ahLst/>
              <a:rect l="textAreaLeft" t="textAreaTop" r="textAreaRight" b="textAreaBottom"/>
              <a:pathLst>
                <a:path w="20" h="206">
                  <a:moveTo>
                    <a:pt x="20" y="13"/>
                  </a:moveTo>
                  <a:lnTo>
                    <a:pt x="20" y="206"/>
                  </a:lnTo>
                  <a:lnTo>
                    <a:pt x="0" y="206"/>
                  </a:lnTo>
                  <a:lnTo>
                    <a:pt x="0" y="0"/>
                  </a:lnTo>
                  <a:lnTo>
                    <a:pt x="13" y="0"/>
                  </a:lnTo>
                  <a:lnTo>
                    <a:pt x="2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82"/>
            <p:cNvSpPr/>
            <p:nvPr/>
          </p:nvSpPr>
          <p:spPr>
            <a:xfrm>
              <a:off x="5791320" y="4343040"/>
              <a:ext cx="1096920" cy="381600"/>
            </a:xfrm>
            <a:custGeom>
              <a:avLst/>
              <a:gdLst>
                <a:gd name="textAreaLeft" fmla="*/ 0 w 1096920"/>
                <a:gd name="textAreaRight" fmla="*/ 1097280 w 1096920"/>
                <a:gd name="textAreaTop" fmla="*/ 0 h 381600"/>
                <a:gd name="textAreaBottom" fmla="*/ 381960 h 381600"/>
              </a:gdLst>
              <a:ahLst/>
              <a:rect l="textAreaLeft" t="textAreaTop" r="textAreaRight" b="textAreaBottom"/>
              <a:pathLst>
                <a:path w="691" h="219">
                  <a:moveTo>
                    <a:pt x="14" y="199"/>
                  </a:moveTo>
                  <a:lnTo>
                    <a:pt x="671" y="199"/>
                  </a:lnTo>
                  <a:lnTo>
                    <a:pt x="671" y="20"/>
                  </a:lnTo>
                  <a:lnTo>
                    <a:pt x="14" y="20"/>
                  </a:lnTo>
                  <a:lnTo>
                    <a:pt x="14" y="0"/>
                  </a:lnTo>
                  <a:lnTo>
                    <a:pt x="691" y="0"/>
                  </a:lnTo>
                  <a:lnTo>
                    <a:pt x="691" y="219"/>
                  </a:lnTo>
                  <a:lnTo>
                    <a:pt x="0" y="219"/>
                  </a:lnTo>
                  <a:lnTo>
                    <a:pt x="0" y="206"/>
                  </a:lnTo>
                  <a:lnTo>
                    <a:pt x="14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83"/>
            <p:cNvSpPr/>
            <p:nvPr/>
          </p:nvSpPr>
          <p:spPr>
            <a:xfrm>
              <a:off x="5776920" y="4343040"/>
              <a:ext cx="46080" cy="3830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383040"/>
                <a:gd name="textAreaBottom" fmla="*/ 383400 h 383040"/>
              </a:gdLst>
              <a:ahLst/>
              <a:rect l="textAreaLeft" t="textAreaTop" r="textAreaRight" b="textAreaBottom"/>
              <a:pathLst>
                <a:path w="20" h="206">
                  <a:moveTo>
                    <a:pt x="20" y="13"/>
                  </a:moveTo>
                  <a:lnTo>
                    <a:pt x="20" y="206"/>
                  </a:lnTo>
                  <a:lnTo>
                    <a:pt x="0" y="206"/>
                  </a:lnTo>
                  <a:lnTo>
                    <a:pt x="0" y="0"/>
                  </a:lnTo>
                  <a:lnTo>
                    <a:pt x="14" y="0"/>
                  </a:lnTo>
                  <a:lnTo>
                    <a:pt x="2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84"/>
            <p:cNvSpPr/>
            <p:nvPr/>
          </p:nvSpPr>
          <p:spPr>
            <a:xfrm>
              <a:off x="3124080" y="3656880"/>
              <a:ext cx="288288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RAINING SUBSYSTE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85"/>
            <p:cNvSpPr/>
            <p:nvPr/>
          </p:nvSpPr>
          <p:spPr>
            <a:xfrm>
              <a:off x="1751760" y="4878360"/>
              <a:ext cx="195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rganizational Need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86"/>
            <p:cNvSpPr/>
            <p:nvPr/>
          </p:nvSpPr>
          <p:spPr>
            <a:xfrm>
              <a:off x="3959640" y="4878360"/>
              <a:ext cx="759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alysi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87"/>
            <p:cNvSpPr/>
            <p:nvPr/>
          </p:nvSpPr>
          <p:spPr>
            <a:xfrm>
              <a:off x="5789520" y="4876560"/>
              <a:ext cx="100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Knowled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88"/>
            <p:cNvSpPr/>
            <p:nvPr/>
          </p:nvSpPr>
          <p:spPr>
            <a:xfrm>
              <a:off x="1751040" y="5104800"/>
              <a:ext cx="1547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mployee Need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89"/>
            <p:cNvSpPr/>
            <p:nvPr/>
          </p:nvSpPr>
          <p:spPr>
            <a:xfrm>
              <a:off x="3961080" y="5104800"/>
              <a:ext cx="63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sig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90"/>
            <p:cNvSpPr/>
            <p:nvPr/>
          </p:nvSpPr>
          <p:spPr>
            <a:xfrm>
              <a:off x="5788080" y="5103360"/>
              <a:ext cx="477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kil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91"/>
            <p:cNvSpPr/>
            <p:nvPr/>
          </p:nvSpPr>
          <p:spPr>
            <a:xfrm>
              <a:off x="1752120" y="5343480"/>
              <a:ext cx="64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udg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92"/>
            <p:cNvSpPr/>
            <p:nvPr/>
          </p:nvSpPr>
          <p:spPr>
            <a:xfrm>
              <a:off x="3961800" y="5343480"/>
              <a:ext cx="1197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velop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93"/>
            <p:cNvSpPr/>
            <p:nvPr/>
          </p:nvSpPr>
          <p:spPr>
            <a:xfrm>
              <a:off x="5790960" y="5342040"/>
              <a:ext cx="791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ttitud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94"/>
            <p:cNvSpPr/>
            <p:nvPr/>
          </p:nvSpPr>
          <p:spPr>
            <a:xfrm>
              <a:off x="1751760" y="5570280"/>
              <a:ext cx="971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quip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95"/>
            <p:cNvSpPr/>
            <p:nvPr/>
          </p:nvSpPr>
          <p:spPr>
            <a:xfrm>
              <a:off x="3962520" y="5570280"/>
              <a:ext cx="1389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mplement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96"/>
            <p:cNvSpPr/>
            <p:nvPr/>
          </p:nvSpPr>
          <p:spPr>
            <a:xfrm>
              <a:off x="5790600" y="5568840"/>
              <a:ext cx="927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otiv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97"/>
            <p:cNvSpPr/>
            <p:nvPr/>
          </p:nvSpPr>
          <p:spPr>
            <a:xfrm>
              <a:off x="1752840" y="5798520"/>
              <a:ext cx="41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f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98"/>
            <p:cNvSpPr/>
            <p:nvPr/>
          </p:nvSpPr>
          <p:spPr>
            <a:xfrm>
              <a:off x="3960720" y="5798520"/>
              <a:ext cx="950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valu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99"/>
            <p:cNvSpPr/>
            <p:nvPr/>
          </p:nvSpPr>
          <p:spPr>
            <a:xfrm>
              <a:off x="5792040" y="5796720"/>
              <a:ext cx="1546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Job Performa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Rectangle 100"/>
            <p:cNvSpPr/>
            <p:nvPr/>
          </p:nvSpPr>
          <p:spPr>
            <a:xfrm>
              <a:off x="2090880" y="4419000"/>
              <a:ext cx="608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PU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101"/>
            <p:cNvSpPr/>
            <p:nvPr/>
          </p:nvSpPr>
          <p:spPr>
            <a:xfrm>
              <a:off x="3948120" y="4419000"/>
              <a:ext cx="990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102"/>
            <p:cNvSpPr/>
            <p:nvPr/>
          </p:nvSpPr>
          <p:spPr>
            <a:xfrm>
              <a:off x="5867640" y="4419000"/>
              <a:ext cx="832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103"/>
            <p:cNvSpPr/>
            <p:nvPr/>
          </p:nvSpPr>
          <p:spPr>
            <a:xfrm>
              <a:off x="1478520" y="2057400"/>
              <a:ext cx="5799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TRAINING’S ORGANIZATIO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104"/>
            <p:cNvSpPr/>
            <p:nvPr/>
          </p:nvSpPr>
          <p:spPr>
            <a:xfrm>
              <a:off x="1731600" y="2483640"/>
              <a:ext cx="691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is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105"/>
            <p:cNvSpPr/>
            <p:nvPr/>
          </p:nvSpPr>
          <p:spPr>
            <a:xfrm>
              <a:off x="2713320" y="2483640"/>
              <a:ext cx="75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rateg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Rectangle 106"/>
            <p:cNvSpPr/>
            <p:nvPr/>
          </p:nvSpPr>
          <p:spPr>
            <a:xfrm>
              <a:off x="3809160" y="2483640"/>
              <a:ext cx="82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ructu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107"/>
            <p:cNvSpPr/>
            <p:nvPr/>
          </p:nvSpPr>
          <p:spPr>
            <a:xfrm>
              <a:off x="4835520" y="2483640"/>
              <a:ext cx="703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olic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108"/>
            <p:cNvSpPr/>
            <p:nvPr/>
          </p:nvSpPr>
          <p:spPr>
            <a:xfrm>
              <a:off x="5819760" y="2483640"/>
              <a:ext cx="1038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cedu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109"/>
            <p:cNvSpPr/>
            <p:nvPr/>
          </p:nvSpPr>
          <p:spPr>
            <a:xfrm>
              <a:off x="1732320" y="2671200"/>
              <a:ext cx="82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inan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110"/>
            <p:cNvSpPr/>
            <p:nvPr/>
          </p:nvSpPr>
          <p:spPr>
            <a:xfrm>
              <a:off x="2712240" y="2671200"/>
              <a:ext cx="971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sour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111"/>
            <p:cNvSpPr/>
            <p:nvPr/>
          </p:nvSpPr>
          <p:spPr>
            <a:xfrm>
              <a:off x="3807000" y="2671200"/>
              <a:ext cx="63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112"/>
            <p:cNvSpPr/>
            <p:nvPr/>
          </p:nvSpPr>
          <p:spPr>
            <a:xfrm>
              <a:off x="4838400" y="2671200"/>
              <a:ext cx="802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duc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113"/>
            <p:cNvSpPr/>
            <p:nvPr/>
          </p:nvSpPr>
          <p:spPr>
            <a:xfrm>
              <a:off x="5818320" y="2671200"/>
              <a:ext cx="1050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chnolog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117"/>
            <p:cNvSpPr/>
            <p:nvPr/>
          </p:nvSpPr>
          <p:spPr>
            <a:xfrm>
              <a:off x="1447920" y="3505320"/>
              <a:ext cx="6172200" cy="289548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75"/>
            <p:cNvSpPr/>
            <p:nvPr/>
          </p:nvSpPr>
          <p:spPr>
            <a:xfrm>
              <a:off x="6400800" y="3047400"/>
              <a:ext cx="231840" cy="24732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46" h="166">
                  <a:moveTo>
                    <a:pt x="73" y="0"/>
                  </a:moveTo>
                  <a:lnTo>
                    <a:pt x="146" y="166"/>
                  </a:lnTo>
                  <a:lnTo>
                    <a:pt x="73" y="126"/>
                  </a:lnTo>
                  <a:lnTo>
                    <a:pt x="0" y="166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Rectangle 72"/>
            <p:cNvSpPr/>
            <p:nvPr/>
          </p:nvSpPr>
          <p:spPr>
            <a:xfrm>
              <a:off x="2590920" y="3123360"/>
              <a:ext cx="63360" cy="63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Slide Number Placeholder 51"/>
          <p:cNvSpPr/>
          <p:nvPr/>
        </p:nvSpPr>
        <p:spPr>
          <a:xfrm>
            <a:off x="8458200" y="632448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72"/>
          <p:cNvSpPr/>
          <p:nvPr/>
        </p:nvSpPr>
        <p:spPr>
          <a:xfrm>
            <a:off x="6477120" y="3276720"/>
            <a:ext cx="63360" cy="63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72"/>
          <p:cNvSpPr/>
          <p:nvPr/>
        </p:nvSpPr>
        <p:spPr>
          <a:xfrm>
            <a:off x="7010280" y="3276720"/>
            <a:ext cx="63720" cy="63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150560" y="617400"/>
            <a:ext cx="7792920" cy="90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Training Processes Mod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4" name="Footer Placeholder 3"/>
          <p:cNvSpPr/>
          <p:nvPr/>
        </p:nvSpPr>
        <p:spPr>
          <a:xfrm>
            <a:off x="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Group 124"/>
          <p:cNvGrpSpPr/>
          <p:nvPr/>
        </p:nvGrpSpPr>
        <p:grpSpPr>
          <a:xfrm>
            <a:off x="914400" y="1981080"/>
            <a:ext cx="7756560" cy="4419360"/>
            <a:chOff x="914400" y="1981080"/>
            <a:chExt cx="7756560" cy="4419360"/>
          </a:xfrm>
        </p:grpSpPr>
        <p:grpSp>
          <p:nvGrpSpPr>
            <p:cNvPr id="656" name="Group 123"/>
            <p:cNvGrpSpPr/>
            <p:nvPr/>
          </p:nvGrpSpPr>
          <p:grpSpPr>
            <a:xfrm>
              <a:off x="1722600" y="1981080"/>
              <a:ext cx="6948360" cy="4419360"/>
              <a:chOff x="1722600" y="1981080"/>
              <a:chExt cx="6948360" cy="4419360"/>
            </a:xfrm>
          </p:grpSpPr>
          <p:grpSp>
            <p:nvGrpSpPr>
              <p:cNvPr id="657" name="Group 122"/>
              <p:cNvGrpSpPr/>
              <p:nvPr/>
            </p:nvGrpSpPr>
            <p:grpSpPr>
              <a:xfrm>
                <a:off x="1722600" y="1981080"/>
                <a:ext cx="6948360" cy="4419360"/>
                <a:chOff x="1722600" y="1981080"/>
                <a:chExt cx="6948360" cy="4419360"/>
              </a:xfrm>
            </p:grpSpPr>
            <p:sp>
              <p:nvSpPr>
                <p:cNvPr id="658" name="Text Box 104"/>
                <p:cNvSpPr/>
                <p:nvPr/>
              </p:nvSpPr>
              <p:spPr>
                <a:xfrm>
                  <a:off x="4286160" y="5507640"/>
                  <a:ext cx="1086120" cy="415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Outcom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Evaluation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Dat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Text Box 55"/>
                <p:cNvSpPr/>
                <p:nvPr/>
              </p:nvSpPr>
              <p:spPr>
                <a:xfrm>
                  <a:off x="1722600" y="1981080"/>
                  <a:ext cx="2773080" cy="5623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182880" tIns="46800" bIns="0" anchor="t">
                  <a:noAutofit/>
                </a:bodyPr>
                <a:p>
                  <a:pPr algn="ctr">
                    <a:spcAft>
                      <a:spcPts val="6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Needs Analysis Phas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Input     Process    Output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Line 58"/>
                <p:cNvSpPr/>
                <p:nvPr/>
              </p:nvSpPr>
              <p:spPr>
                <a:xfrm>
                  <a:off x="4505400" y="2278080"/>
                  <a:ext cx="190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Line 59"/>
                <p:cNvSpPr/>
                <p:nvPr/>
              </p:nvSpPr>
              <p:spPr>
                <a:xfrm>
                  <a:off x="4686480" y="2263680"/>
                  <a:ext cx="0" cy="437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Line 60"/>
                <p:cNvSpPr/>
                <p:nvPr/>
              </p:nvSpPr>
              <p:spPr>
                <a:xfrm flipH="1">
                  <a:off x="2273040" y="2686680"/>
                  <a:ext cx="2431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Line 61"/>
                <p:cNvSpPr/>
                <p:nvPr/>
              </p:nvSpPr>
              <p:spPr>
                <a:xfrm>
                  <a:off x="2292480" y="2686680"/>
                  <a:ext cx="0" cy="440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Line 62"/>
                <p:cNvSpPr/>
                <p:nvPr/>
              </p:nvSpPr>
              <p:spPr>
                <a:xfrm>
                  <a:off x="2286000" y="3108960"/>
                  <a:ext cx="1969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Line 63"/>
                <p:cNvSpPr/>
                <p:nvPr/>
              </p:nvSpPr>
              <p:spPr>
                <a:xfrm>
                  <a:off x="5457960" y="3390840"/>
                  <a:ext cx="1847880" cy="1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Line 64"/>
                <p:cNvSpPr/>
                <p:nvPr/>
              </p:nvSpPr>
              <p:spPr>
                <a:xfrm flipH="1">
                  <a:off x="6146280" y="4273200"/>
                  <a:ext cx="11401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67" name="Group 65"/>
                <p:cNvGrpSpPr/>
                <p:nvPr/>
              </p:nvGrpSpPr>
              <p:grpSpPr>
                <a:xfrm>
                  <a:off x="7286760" y="3390840"/>
                  <a:ext cx="0" cy="1499400"/>
                  <a:chOff x="7286760" y="3390840"/>
                  <a:chExt cx="0" cy="1499400"/>
                </a:xfrm>
              </p:grpSpPr>
              <p:sp>
                <p:nvSpPr>
                  <p:cNvPr id="668" name="Line 66"/>
                  <p:cNvSpPr/>
                  <p:nvPr/>
                </p:nvSpPr>
                <p:spPr>
                  <a:xfrm>
                    <a:off x="7286760" y="3390840"/>
                    <a:ext cx="0" cy="8802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9" name="Line 67"/>
                  <p:cNvSpPr/>
                  <p:nvPr/>
                </p:nvSpPr>
                <p:spPr>
                  <a:xfrm>
                    <a:off x="7286760" y="4230000"/>
                    <a:ext cx="0" cy="6602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0" name="Line 68"/>
                <p:cNvSpPr/>
                <p:nvPr/>
              </p:nvSpPr>
              <p:spPr>
                <a:xfrm>
                  <a:off x="7286760" y="5330880"/>
                  <a:ext cx="0" cy="352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Text Box 70"/>
                <p:cNvSpPr/>
                <p:nvPr/>
              </p:nvSpPr>
              <p:spPr>
                <a:xfrm>
                  <a:off x="2482920" y="2866320"/>
                  <a:ext cx="2774880" cy="5623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182880" tIns="46800" bIns="0" anchor="t">
                  <a:noAutofit/>
                </a:bodyPr>
                <a:p>
                  <a:pPr algn="ctr">
                    <a:spcAft>
                      <a:spcPts val="6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Design Phas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Input     Process    Output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Line 71"/>
                <p:cNvSpPr/>
                <p:nvPr/>
              </p:nvSpPr>
              <p:spPr>
                <a:xfrm>
                  <a:off x="3119400" y="3297960"/>
                  <a:ext cx="223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Line 72"/>
                <p:cNvSpPr/>
                <p:nvPr/>
              </p:nvSpPr>
              <p:spPr>
                <a:xfrm>
                  <a:off x="4133880" y="3297960"/>
                  <a:ext cx="200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Line 73"/>
                <p:cNvSpPr/>
                <p:nvPr/>
              </p:nvSpPr>
              <p:spPr>
                <a:xfrm>
                  <a:off x="5267160" y="3164040"/>
                  <a:ext cx="190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Line 74"/>
                <p:cNvSpPr/>
                <p:nvPr/>
              </p:nvSpPr>
              <p:spPr>
                <a:xfrm>
                  <a:off x="5457960" y="3146400"/>
                  <a:ext cx="0" cy="443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Line 75"/>
                <p:cNvSpPr/>
                <p:nvPr/>
              </p:nvSpPr>
              <p:spPr>
                <a:xfrm flipH="1">
                  <a:off x="3033720" y="3571920"/>
                  <a:ext cx="2433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Line 76"/>
                <p:cNvSpPr/>
                <p:nvPr/>
              </p:nvSpPr>
              <p:spPr>
                <a:xfrm>
                  <a:off x="3052800" y="3571920"/>
                  <a:ext cx="0" cy="440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Line 77"/>
                <p:cNvSpPr/>
                <p:nvPr/>
              </p:nvSpPr>
              <p:spPr>
                <a:xfrm>
                  <a:off x="3052800" y="4012560"/>
                  <a:ext cx="190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Text Box 79"/>
                <p:cNvSpPr/>
                <p:nvPr/>
              </p:nvSpPr>
              <p:spPr>
                <a:xfrm>
                  <a:off x="3243240" y="3744360"/>
                  <a:ext cx="2700360" cy="56268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182880" tIns="46800" bIns="0" anchor="t">
                  <a:noAutofit/>
                </a:bodyPr>
                <a:p>
                  <a:pPr algn="ctr">
                    <a:spcAft>
                      <a:spcPts val="6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Development Phas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Input     Process    Output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Line 82"/>
                <p:cNvSpPr/>
                <p:nvPr/>
              </p:nvSpPr>
              <p:spPr>
                <a:xfrm>
                  <a:off x="5956200" y="4042080"/>
                  <a:ext cx="190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Line 83"/>
                <p:cNvSpPr/>
                <p:nvPr/>
              </p:nvSpPr>
              <p:spPr>
                <a:xfrm>
                  <a:off x="6146640" y="4024080"/>
                  <a:ext cx="0" cy="413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Line 84"/>
                <p:cNvSpPr/>
                <p:nvPr/>
              </p:nvSpPr>
              <p:spPr>
                <a:xfrm flipH="1">
                  <a:off x="3793680" y="4449960"/>
                  <a:ext cx="2367000" cy="1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Line 85"/>
                <p:cNvSpPr/>
                <p:nvPr/>
              </p:nvSpPr>
              <p:spPr>
                <a:xfrm>
                  <a:off x="3813120" y="4449960"/>
                  <a:ext cx="0" cy="440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Line 86"/>
                <p:cNvSpPr/>
                <p:nvPr/>
              </p:nvSpPr>
              <p:spPr>
                <a:xfrm>
                  <a:off x="3813120" y="4890600"/>
                  <a:ext cx="190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Text Box 88"/>
                <p:cNvSpPr/>
                <p:nvPr/>
              </p:nvSpPr>
              <p:spPr>
                <a:xfrm>
                  <a:off x="4000680" y="4678560"/>
                  <a:ext cx="2705040" cy="5623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182880" tIns="46800" bIns="0" anchor="t">
                  <a:noAutofit/>
                </a:bodyPr>
                <a:p>
                  <a:pPr algn="ctr">
                    <a:spcAft>
                      <a:spcPts val="6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Implementation Phas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Input     Process    Output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Line 91"/>
                <p:cNvSpPr/>
                <p:nvPr/>
              </p:nvSpPr>
              <p:spPr>
                <a:xfrm>
                  <a:off x="6705720" y="4983480"/>
                  <a:ext cx="190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Line 92"/>
                <p:cNvSpPr/>
                <p:nvPr/>
              </p:nvSpPr>
              <p:spPr>
                <a:xfrm>
                  <a:off x="6877080" y="4974480"/>
                  <a:ext cx="0" cy="405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Line 93"/>
                <p:cNvSpPr/>
                <p:nvPr/>
              </p:nvSpPr>
              <p:spPr>
                <a:xfrm flipH="1">
                  <a:off x="4570200" y="5391360"/>
                  <a:ext cx="2330280" cy="1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Line 94"/>
                <p:cNvSpPr/>
                <p:nvPr/>
              </p:nvSpPr>
              <p:spPr>
                <a:xfrm>
                  <a:off x="4570560" y="5375160"/>
                  <a:ext cx="0" cy="130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Line 95"/>
                <p:cNvSpPr/>
                <p:nvPr/>
              </p:nvSpPr>
              <p:spPr>
                <a:xfrm>
                  <a:off x="4761000" y="6073560"/>
                  <a:ext cx="782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Text Box 96"/>
                <p:cNvSpPr/>
                <p:nvPr/>
              </p:nvSpPr>
              <p:spPr>
                <a:xfrm>
                  <a:off x="5532480" y="5682960"/>
                  <a:ext cx="2773440" cy="56268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182880" tIns="46800" bIns="0" anchor="t">
                  <a:noAutofit/>
                </a:bodyPr>
                <a:p>
                  <a:pPr algn="ctr">
                    <a:spcAft>
                      <a:spcPts val="6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Evaluation Phas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Input     Process    Output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Line 97"/>
                <p:cNvSpPr/>
                <p:nvPr/>
              </p:nvSpPr>
              <p:spPr>
                <a:xfrm>
                  <a:off x="7286760" y="6257520"/>
                  <a:ext cx="0" cy="142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Line 98"/>
                <p:cNvSpPr/>
                <p:nvPr/>
              </p:nvSpPr>
              <p:spPr>
                <a:xfrm flipH="1">
                  <a:off x="1900080" y="6388560"/>
                  <a:ext cx="54057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Line 99"/>
                <p:cNvSpPr/>
                <p:nvPr/>
              </p:nvSpPr>
              <p:spPr>
                <a:xfrm flipV="1">
                  <a:off x="1913040" y="2542320"/>
                  <a:ext cx="0" cy="3846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Line 100"/>
                <p:cNvSpPr/>
                <p:nvPr/>
              </p:nvSpPr>
              <p:spPr>
                <a:xfrm>
                  <a:off x="2292480" y="3306600"/>
                  <a:ext cx="0" cy="308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Line 101"/>
                <p:cNvSpPr/>
                <p:nvPr/>
              </p:nvSpPr>
              <p:spPr>
                <a:xfrm flipV="1">
                  <a:off x="3527280" y="4305600"/>
                  <a:ext cx="0" cy="2082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Line 102"/>
                <p:cNvSpPr/>
                <p:nvPr/>
              </p:nvSpPr>
              <p:spPr>
                <a:xfrm flipV="1">
                  <a:off x="4078440" y="5286600"/>
                  <a:ext cx="0" cy="1101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Text Box 103"/>
                <p:cNvSpPr/>
                <p:nvPr/>
              </p:nvSpPr>
              <p:spPr>
                <a:xfrm>
                  <a:off x="7010280" y="4861080"/>
                  <a:ext cx="1660680" cy="4255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Proces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Evaluation Dat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Line 105"/>
                <p:cNvSpPr/>
                <p:nvPr/>
              </p:nvSpPr>
              <p:spPr>
                <a:xfrm>
                  <a:off x="3908520" y="4172760"/>
                  <a:ext cx="223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Line 106"/>
                <p:cNvSpPr/>
                <p:nvPr/>
              </p:nvSpPr>
              <p:spPr>
                <a:xfrm>
                  <a:off x="4896000" y="4172760"/>
                  <a:ext cx="209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Line 107"/>
                <p:cNvSpPr/>
                <p:nvPr/>
              </p:nvSpPr>
              <p:spPr>
                <a:xfrm>
                  <a:off x="2357280" y="2405160"/>
                  <a:ext cx="223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Line 108"/>
                <p:cNvSpPr/>
                <p:nvPr/>
              </p:nvSpPr>
              <p:spPr>
                <a:xfrm>
                  <a:off x="3362400" y="2413800"/>
                  <a:ext cx="199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Line 109"/>
                <p:cNvSpPr/>
                <p:nvPr/>
              </p:nvSpPr>
              <p:spPr>
                <a:xfrm>
                  <a:off x="4651200" y="5110200"/>
                  <a:ext cx="223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Line 110"/>
                <p:cNvSpPr/>
                <p:nvPr/>
              </p:nvSpPr>
              <p:spPr>
                <a:xfrm>
                  <a:off x="5638680" y="5110200"/>
                  <a:ext cx="200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Line 111"/>
                <p:cNvSpPr/>
                <p:nvPr/>
              </p:nvSpPr>
              <p:spPr>
                <a:xfrm>
                  <a:off x="6184800" y="6117840"/>
                  <a:ext cx="223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Line 112"/>
                <p:cNvSpPr/>
                <p:nvPr/>
              </p:nvSpPr>
              <p:spPr>
                <a:xfrm>
                  <a:off x="7172280" y="6117840"/>
                  <a:ext cx="209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7" name="Line 114"/>
              <p:cNvSpPr/>
              <p:nvPr/>
            </p:nvSpPr>
            <p:spPr>
              <a:xfrm>
                <a:off x="2286000" y="3324240"/>
                <a:ext cx="209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Line 116"/>
              <p:cNvSpPr/>
              <p:nvPr/>
            </p:nvSpPr>
            <p:spPr>
              <a:xfrm>
                <a:off x="4572000" y="5375160"/>
                <a:ext cx="0" cy="123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9" name="Text Box 120"/>
            <p:cNvSpPr/>
            <p:nvPr/>
          </p:nvSpPr>
          <p:spPr>
            <a:xfrm>
              <a:off x="914400" y="3996360"/>
              <a:ext cx="1219320" cy="5806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riggering Ev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0" name="Slide Number Placeholder 60"/>
          <p:cNvSpPr/>
          <p:nvPr/>
        </p:nvSpPr>
        <p:spPr>
          <a:xfrm>
            <a:off x="8458200" y="632448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-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lassification of Learning Outcom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2" name="Footer Placeholder 3"/>
          <p:cNvSpPr/>
          <p:nvPr/>
        </p:nvSpPr>
        <p:spPr>
          <a:xfrm>
            <a:off x="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3" name="Group 9"/>
          <p:cNvGrpSpPr/>
          <p:nvPr/>
        </p:nvGrpSpPr>
        <p:grpSpPr>
          <a:xfrm>
            <a:off x="636480" y="2133720"/>
            <a:ext cx="7898040" cy="4111560"/>
            <a:chOff x="636480" y="2133720"/>
            <a:chExt cx="7898040" cy="4111560"/>
          </a:xfrm>
        </p:grpSpPr>
        <p:sp>
          <p:nvSpPr>
            <p:cNvPr id="714" name="Text Box 5"/>
            <p:cNvSpPr/>
            <p:nvPr/>
          </p:nvSpPr>
          <p:spPr>
            <a:xfrm>
              <a:off x="3105000" y="2133720"/>
              <a:ext cx="2961000" cy="131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kill-Based Learn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pil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utomatic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Text Box 6"/>
            <p:cNvSpPr/>
            <p:nvPr/>
          </p:nvSpPr>
          <p:spPr>
            <a:xfrm>
              <a:off x="636480" y="4929120"/>
              <a:ext cx="2962440" cy="1316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gnitive Knowled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clarative Knowled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cedural Knowled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ategic Knowled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Text Box 7"/>
            <p:cNvSpPr/>
            <p:nvPr/>
          </p:nvSpPr>
          <p:spPr>
            <a:xfrm>
              <a:off x="5572080" y="4929120"/>
              <a:ext cx="2962440" cy="1316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itudinal Learn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ffect/Feelin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8"/>
            <p:cNvSpPr/>
            <p:nvPr/>
          </p:nvSpPr>
          <p:spPr>
            <a:xfrm>
              <a:off x="3414600" y="3284640"/>
              <a:ext cx="2303640" cy="18097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Lear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8" name="Slide Number Placeholder 10"/>
          <p:cNvSpPr/>
          <p:nvPr/>
        </p:nvSpPr>
        <p:spPr>
          <a:xfrm>
            <a:off x="8458200" y="632448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-</a:t>
            </a:r>
            <a:fld id="{795DFCE9-14A1-4FC0-8C3F-17B322AF41A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9:28:52Z</dcterms:created>
  <dc:creator>user</dc:creator>
  <dc:description/>
  <dc:language>en-US</dc:language>
  <cp:lastModifiedBy>Mami</cp:lastModifiedBy>
  <dcterms:modified xsi:type="dcterms:W3CDTF">2009-07-17T19:10:41Z</dcterms:modified>
  <cp:revision>106</cp:revision>
  <dc:subject/>
  <dc:title>No Trait and Treatment Interaction</dc:title>
</cp:coreProperties>
</file>